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1015920"/>
            <a:ext cx="5321520" cy="147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3040" y="2844720"/>
            <a:ext cx="5371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3040" y="5710680"/>
            <a:ext cx="5371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8240" y="1015920"/>
            <a:ext cx="5321520" cy="147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3040" y="2844720"/>
            <a:ext cx="26211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5600" y="2844720"/>
            <a:ext cx="26211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3040" y="5710680"/>
            <a:ext cx="26211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95600" y="5710680"/>
            <a:ext cx="26211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8240" y="1015920"/>
            <a:ext cx="5321520" cy="147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3040" y="2844720"/>
            <a:ext cx="17294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559240" y="2844720"/>
            <a:ext cx="17294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375800" y="2844720"/>
            <a:ext cx="17294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3040" y="5710680"/>
            <a:ext cx="17294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559240" y="5710680"/>
            <a:ext cx="17294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375800" y="5710680"/>
            <a:ext cx="17294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8240" y="1015920"/>
            <a:ext cx="5321520" cy="147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3040" y="2844720"/>
            <a:ext cx="5371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8240" y="1015920"/>
            <a:ext cx="5321520" cy="147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2844720"/>
            <a:ext cx="5371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1015920"/>
            <a:ext cx="5321520" cy="147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3040" y="2844720"/>
            <a:ext cx="2621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495600" y="2844720"/>
            <a:ext cx="2621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8240" y="1015920"/>
            <a:ext cx="5321520" cy="147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8240" y="1015920"/>
            <a:ext cx="532152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8240" y="1015920"/>
            <a:ext cx="5321520" cy="147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2844720"/>
            <a:ext cx="26211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95600" y="2844720"/>
            <a:ext cx="2621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3040" y="5710680"/>
            <a:ext cx="26211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8240" y="1015920"/>
            <a:ext cx="5321520" cy="147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2844720"/>
            <a:ext cx="2621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95600" y="2844720"/>
            <a:ext cx="26211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95600" y="5710680"/>
            <a:ext cx="26211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8240" y="1015920"/>
            <a:ext cx="5321520" cy="147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2844720"/>
            <a:ext cx="26211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95600" y="2844720"/>
            <a:ext cx="26211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3040" y="5710680"/>
            <a:ext cx="5371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203040"/>
            <a:ext cx="6705360" cy="559080"/>
            <a:chOff x="76320" y="203040"/>
            <a:chExt cx="6705360" cy="559080"/>
          </a:xfrm>
        </p:grpSpPr>
        <p:sp>
          <p:nvSpPr>
            <p:cNvPr id="1" name=""/>
            <p:cNvSpPr/>
            <p:nvPr/>
          </p:nvSpPr>
          <p:spPr>
            <a:xfrm>
              <a:off x="76320" y="203040"/>
              <a:ext cx="6705360" cy="27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74747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3280" y="609480"/>
              <a:ext cx="6462720" cy="15264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50000">
                  <a:srgbClr val="919191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76320" y="8610480"/>
            <a:ext cx="6705360" cy="279360"/>
            <a:chOff x="76320" y="8610480"/>
            <a:chExt cx="6705360" cy="279360"/>
          </a:xfrm>
        </p:grpSpPr>
        <p:sp>
          <p:nvSpPr>
            <p:cNvPr id="4" name=""/>
            <p:cNvSpPr/>
            <p:nvPr/>
          </p:nvSpPr>
          <p:spPr>
            <a:xfrm>
              <a:off x="76320" y="8763120"/>
              <a:ext cx="6705360" cy="12672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8610480"/>
              <a:ext cx="6312240" cy="507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1015920"/>
            <a:ext cx="5321520" cy="1473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743040" y="2844720"/>
            <a:ext cx="5371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1015920"/>
            <a:ext cx="5321520" cy="1473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LESSON ONE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INI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OF FIT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EROBIC FIT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2 MA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SET OF BLOOD LACTIC ACID (OBL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3800" y="1549440"/>
            <a:ext cx="6273720" cy="1015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SOURCES OF ENERGY</a:t>
            </a:r>
            <a:endParaRPr b="1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3657600"/>
            <a:ext cx="5581440" cy="447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19191"/>
                </a:solidFill>
                <a:latin typeface="Arial"/>
              </a:rPr>
              <a:t>ATP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9191"/>
                </a:solidFill>
                <a:latin typeface="Arial"/>
              </a:rPr>
              <a:t>ADENOSINE TRIPHOSPH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14680" y="5905440"/>
            <a:ext cx="3504960" cy="22100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5040" y="1397160"/>
            <a:ext cx="5664240" cy="9396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ENERGY SYSTEMS</a:t>
            </a:r>
            <a:endParaRPr b="1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3047760"/>
            <a:ext cx="5581440" cy="50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SPHAGEN (ATP + C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EROBIC GLYCO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EROBIC GLYCO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A OXID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68560" y="1397160"/>
            <a:ext cx="4520880" cy="1015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Book Antiqua"/>
              </a:rPr>
              <a:t>ATP + CP</a:t>
            </a:r>
            <a:endParaRPr b="1" i="1" lang="en-US" sz="6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6019920" cy="492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ATINE PHOSPHATE (C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HIGH ENERGY COMPOU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PID ENERGY P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RS WITHOUT OXY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MEDIATE ENERGY RE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SECONDS HIGH INTENS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7320" y="1320480"/>
            <a:ext cx="5283360" cy="1320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ANAEROBIC GLYCOLYSIS</a:t>
            </a:r>
            <a:endParaRPr b="1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5657760" cy="48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LITTING OF GLUCOSE WITHOUT OXY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DGES THE GAP - BEGINNING OF 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S HIGH LACTIC ACID CONCENT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3 MINUTES OF INTENSE 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1549440"/>
            <a:ext cx="5968800" cy="1015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AEROBIC GLYCOLYSIS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3276720"/>
            <a:ext cx="6629400" cy="48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S WITH GLUCO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S PYRUVIC ACI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PRESENCE OF O2 PYRUVIC ACID IS METABOLIZED INTO CO2 AND H2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REBS CYC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CHEMICAL BREAKDOWN OF PYRUVIC ACI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5040" y="1549080"/>
            <a:ext cx="5454720" cy="8636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BETA OXIDATION</a:t>
            </a:r>
            <a:endParaRPr b="1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3352320"/>
            <a:ext cx="6172200" cy="477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T METABOL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S OXY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 DURATION 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R INTENS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1320480"/>
            <a:ext cx="5207040" cy="1320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SUBSTRATE UTILIZATION</a:t>
            </a:r>
            <a:endParaRPr b="1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6095880" cy="46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PENDENT ON 3 FACTO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NSITY/D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 OF TRAI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2240" y="1320840"/>
            <a:ext cx="4597200" cy="9396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Book Antiqua"/>
              </a:rPr>
              <a:t>O.B.L.A</a:t>
            </a:r>
            <a:endParaRPr b="1" i="1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2895120"/>
            <a:ext cx="6476760" cy="561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TIC ACID ACCUM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RESSED AS A PERCENTAGE OF MAXIMAL O2 UPTA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ALLY OCCURS BETWEEN 55% AND 65% OF VO2 MA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CURS AT 80% VO2 MAX IN HIGHLY TRAINED ATHLE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9760" y="1397160"/>
            <a:ext cx="6273720" cy="1473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REMOVAL OF LACTIC ACID</a:t>
            </a:r>
            <a:endParaRPr b="1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3885840"/>
            <a:ext cx="6324480" cy="424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IDATION TO CO2 AND H2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S IN URINE AND SWE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RSION TO GLUCOSE OR GYCLO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6960" y="1473120"/>
            <a:ext cx="5302440" cy="1015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OBLA “FACTS”</a:t>
            </a:r>
            <a:endParaRPr b="1" i="1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6019920" cy="454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NSITY DEPEND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N BE TRAIN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N BE POSTPON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1320480"/>
            <a:ext cx="5968800" cy="12445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OMPONENTS OF FITNESS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60962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DIORESPIRATORY ENDUR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CULAR STRENG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CULAR ENDUR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DY 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8240" y="1015920"/>
            <a:ext cx="5321520" cy="1473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LESSON TWO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3276720"/>
            <a:ext cx="5753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RT RATE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RT RATE MONI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 HEART RATE/RECOVERY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68560" y="1320480"/>
            <a:ext cx="4597200" cy="1320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HEART RATE RESPONSE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2895120"/>
            <a:ext cx="6629400" cy="52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RT RATE AND OXYGEN UPTAKE HAVE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NEAR RELATION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RT RATE IS CONSIDERED A GOOD WAY TO ESTIMATE EXERCISE INTENS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4160" y="1320480"/>
            <a:ext cx="6349680" cy="11682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ETERMINING TRAINING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HEART RATE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2133360"/>
            <a:ext cx="655344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IMATE MAXIMUM HR (MH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0 - AGE = MH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TERMINE HEART RATE RE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RR = MHR - RESTING HEART 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INING HEART RATE (TH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____% X HRR) + RHR = TH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86960" y="558720"/>
            <a:ext cx="5359320" cy="11685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RATE OF PERCEIVED EXERTION</a:t>
            </a: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915840" y="2058840"/>
            <a:ext cx="5102280" cy="64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    VERY VERY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     VERY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   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    SOMEWHAT HEA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     HEA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     VERY HEA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     VERY VERY HEA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8240" y="1015920"/>
            <a:ext cx="5321520" cy="1473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LESSON THREE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S AFFECTING AEROBIC EXERC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TERM RESPON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TERM ADAP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1360" y="1244520"/>
            <a:ext cx="5511600" cy="10922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FACTORS AFFECTING AEROBIC EXERCISE</a:t>
            </a: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55627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19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 OF EXERC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D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FOR FIT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DY COMP0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OF ACTI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58360" y="1244160"/>
            <a:ext cx="5892840" cy="9399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EXERCISE PRESCRIPTION</a:t>
            </a:r>
            <a:br>
              <a:rPr sz="3200"/>
            </a:b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FITT PRINCIPLE</a:t>
            </a: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6477120" cy="568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NCY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- 5 TIMES PER WE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ENS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60%-90% OF MH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-14  RPE SC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-80% VO2 MA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E                    20-30 MINUT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PE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 MUSCLE 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YTHM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8720" y="1244520"/>
            <a:ext cx="5664240" cy="10922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SHORT TERM RESPONSES TO AEROBIC EXERCISE</a:t>
            </a:r>
            <a:endParaRPr b="1" i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2819520"/>
            <a:ext cx="6400800" cy="530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IN PULMONARY VENTILATION (RESPIR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IN HEART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IN STROKE VOLU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IN CARDIAC OUTP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IN MUSCLE TEMPER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IN BLOOD FLOW TO HEA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2400" y="1244520"/>
            <a:ext cx="5740200" cy="1015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LONG TERM ADAPTATIONS TO AEROBIC EXERCISE</a:t>
            </a:r>
            <a:endParaRPr b="1" i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2286000"/>
            <a:ext cx="647712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182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880" indent="-18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ASE IN RH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880" indent="-18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ER HR AT A GIVEN WORK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880" indent="-18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ASE IN HR RECOVERY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880" indent="-18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NUMBER AND SIZE OF FUNCTIONAL CAPILLA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880" indent="-18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IN CARDIAC OUTP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880" indent="-18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IN STROKE VOLU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880" indent="-18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IN THE NUMBER AND SIZE OF MITACHOND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880" indent="-18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IN THE ABILITY TO MOBILIZE AND UTILIZE F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880" indent="-18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ASE IN BLOOD LIPI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880" indent="-18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ASE IN RESTING BLOOD PRES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1320840"/>
            <a:ext cx="5968800" cy="10922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LONG TERM ADAPTATIONS TO AEROBIC EXERCISE</a:t>
            </a:r>
            <a:endParaRPr b="1" i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297180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CULOSKELATAL 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MUSCULAR STRENG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APILLARY DENSITY IN MUS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NGTHENING OF TENDONS, LIGAMENTS, AND J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ACTS OSTEOPORO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SCELLANEOUS 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HANCED TOLERANCE TO HE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OF ENDORPHINES “RUNNERS HIGH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5040" y="1320840"/>
            <a:ext cx="5454720" cy="1015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AEROBIC ACTIVITY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6096240" cy="546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LARGE MUSCLE GROU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HYTHM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OUS/INTERV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SES HR TO TRAINING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ATER THAN 20 MIN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8240" y="1015920"/>
            <a:ext cx="5321520" cy="1473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LESSON FOUR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3040" y="3276720"/>
            <a:ext cx="61149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EROBIC FITNESS ASSESS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RCISE PR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86960" y="1396800"/>
            <a:ext cx="5302440" cy="12445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AEROBIC FITNESS </a:t>
            </a: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ASSESSMENT</a:t>
            </a:r>
            <a:endParaRPr b="1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3352320"/>
            <a:ext cx="6477120" cy="477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2 MAX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MAX AMOUNT OF O2 THAT THE BODY IS ABLE TO UTILIZE PER MINUTE OF PHYSICAL A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2 MAX IS CONSIDERED THE SINGLE, BEST INDICATOR OF A PERSONS LEVEL OF AEROBIC FIT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2 MAX OCCURS WHERE A FURTHER INCREASE IN WORK IS NOT ACCOMPANIED BY AN ADDITIONAL INCREASE IN O2 CONSUM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1397160"/>
            <a:ext cx="6121440" cy="1015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EXPRESSING VO2</a:t>
            </a:r>
            <a:endParaRPr b="1" i="1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5943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OLUTE VO2/VO2 MA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/mi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VE VO2/VO2 MAX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l O2/Kg/mi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0120" y="1397160"/>
            <a:ext cx="6197760" cy="9396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ASSESSING VO2 MAX</a:t>
            </a:r>
            <a:endParaRPr b="1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3047760"/>
            <a:ext cx="6248520" cy="50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XIMAL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A PERSON TO EXERCISE TO EXHAUS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BMAXIMAL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S AN INDIVIDUALS RESPONSE AT SUBMAXIMAL EXERCIS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2 MAX IS PREDICTED FROM EXERCISE HEART RATE FOR THE GIVEN SUBMAXIMAL EXERC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3800" y="1320840"/>
            <a:ext cx="6273720" cy="10922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ASSESSING VO2 MAX</a:t>
            </a:r>
            <a:endParaRPr b="1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3124080"/>
            <a:ext cx="5429160" cy="52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ELD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A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1320840"/>
            <a:ext cx="6045120" cy="1015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BENEFITS OF TESTING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6096240" cy="52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SSES STRENGTHS AND WEAKN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BASELIN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FEEDB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HEALTH ASSES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UNDERST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1397160"/>
            <a:ext cx="5968800" cy="1015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TESTING WILL NOT </a:t>
            </a:r>
            <a:endParaRPr b="1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3428640"/>
            <a:ext cx="6400800" cy="46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DICT FUTURE “GOLD MEDALIST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U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HYSICAL DEMANDS OF SOME S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0120" y="1473120"/>
            <a:ext cx="6197760" cy="1015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Book Antiqua"/>
              </a:rPr>
              <a:t>2 MILE RUN TEST</a:t>
            </a:r>
            <a:endParaRPr b="1" i="1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3276720"/>
            <a:ext cx="6172200" cy="48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N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2MAX = 99.7 - (3.35 X TIM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MEN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2MAX = 72.9 - (1.77 X TIM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58720" y="634680"/>
            <a:ext cx="5664240" cy="11682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PRINCIPLES OF EXERCISE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54100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199800" indent="-1998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LO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9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9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9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C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9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9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E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9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4160" y="1320480"/>
            <a:ext cx="6349680" cy="11682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3  PHASES OF AN AEROBIC </a:t>
            </a:r>
            <a:br>
              <a:rPr sz="2400"/>
            </a:b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EXERCISE PROGRAM</a:t>
            </a: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2971440"/>
            <a:ext cx="6172200" cy="515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PARATORY PH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LASTS 4-6 WEE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DITIONING PH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LASTS 12-20 WEE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NSITY 70 - 80 HR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ATION/FREQUENCY INCREASED BY 10% PER WE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INTENANCE PH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S 6 MONTHS AFTER STARTING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S FOR A LIFE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6960" y="1396800"/>
            <a:ext cx="5302440" cy="12445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OXYGEN CONSUMPTION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3352320"/>
            <a:ext cx="6477120" cy="477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2 MAX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MAX AMOUNT OF O2 THAT THE BODY IS ABLE TO UTILIZE PER MINUTE OF PHYSICAL A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2 MAX IS CONSIDERED THE SINGLE, BEST INDICATOR OF A PERSONS LEVEL OF AEROBIC FIT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2 MAX OCCURS WHERE A FURTHER INCREASE IN WORK IS NOT ACCOMPANIED BY AN ADDITIONAL INCREASE IN O2 CONSUM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1320840"/>
            <a:ext cx="6045120" cy="13968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PHYSIOLOGICAL EFFECTS OF A WARM UP</a:t>
            </a: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3428640"/>
            <a:ext cx="62485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IN BODY TEMPER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IN BLOOD FLOW TO MUSCLES AND HEA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ASED MUSCLE CONTRACTION AND REFLEX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ASES CHEMICAL REACTION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5040" y="1397160"/>
            <a:ext cx="5454720" cy="10159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PHYSIOLOGICAL EFFECTS OF A COOL DOWN</a:t>
            </a:r>
            <a:endParaRPr b="1" i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5867280" cy="515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REASED LACTIC ACID LEV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S BLOOD POO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TCHING WARM MUSCLES IMPROVES FLEXI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REASED CHANCES OF CARDIAC IRREGULAR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30120" y="1320840"/>
            <a:ext cx="6197760" cy="10922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EXERCISE ADHERENCE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3040" y="2844720"/>
            <a:ext cx="5371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TRAI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 EQUI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PARTN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OID OVERTRAI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EP A LO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ESS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ITOR HEAL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1015920"/>
            <a:ext cx="5321520" cy="1473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LESSON FIVE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3040" y="2844720"/>
            <a:ext cx="5371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IG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ED ONSET OF MUSCLE SORENESS (DO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IND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AL CONSID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DIUM STAIR CLIMB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4160" y="1320480"/>
            <a:ext cx="6349680" cy="8636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MECHANISMS OF FATIGUE</a:t>
            </a: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5581440" cy="558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SSIBLE CAUS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REASED ATP SUPP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 IN LACTIC ACI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HYD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TIV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THERMI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LETION OF GLYCO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LYTE IMBAL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1015920"/>
            <a:ext cx="6045120" cy="10922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POSSIBLE CAUSES OF MUSCLE SORENESS</a:t>
            </a: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66360" y="2489040"/>
            <a:ext cx="5372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UT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CK OF BLOOD FLOW (O2) AND GENERAL FATIGUE OF  MUSC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LAYED ONSET OF MUSCLE SORENESS (D.O.M.S.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HOURS AFTER EXERC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LAST 2-4 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RS TO MUSCLE  AND CONNECTIVE TISS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FLUID RETEN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CLE SPAS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A SPRAIN OR INJU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VEN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WARM UP, START SLOW, COOL DOWN PROPER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5040" y="1244520"/>
            <a:ext cx="5454720" cy="10922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CONTRAINDICATIONS OF EXERCISE</a:t>
            </a: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6477120" cy="609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NT HEART ATT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STABLE  ANGINA PECTOR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NORMAL HEART A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N IN CHEST, ARMS FOLLOWING A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ZZINESS, LIGHT HEAD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CK OF COORDINATION, CONFUSION, COLD SWEA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NESS, PARTICULARLY VIRAL INF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640" y="1244520"/>
            <a:ext cx="5054400" cy="10922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SYMPTOMS OF OVERTRAINING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2666880"/>
            <a:ext cx="6248520" cy="566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CLE SORE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DACHES, SORE THROAT, MILD CO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T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OM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INTEREST IN DAILY ACTI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S OF APPET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DDEN DROP IN WEIG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IPATION OR DIARRH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N ERU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NORMALLY HIGH RH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1320480"/>
            <a:ext cx="5226120" cy="7873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RISK FACTORS</a:t>
            </a:r>
            <a:endParaRPr b="1" i="1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5657760" cy="566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67676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67"/>
                </a:solidFill>
                <a:latin typeface="Arial"/>
              </a:rPr>
              <a:t>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67676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67"/>
                </a:solidFill>
                <a:latin typeface="Arial"/>
              </a:rPr>
              <a:t>HERED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67676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67"/>
                </a:solidFill>
                <a:latin typeface="Arial"/>
              </a:rPr>
              <a:t>GEN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K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ES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CHOLESTE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BLOOD PRESS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NORMAL EK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9680" y="2619360"/>
            <a:ext cx="2381040" cy="1542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1360" y="1320480"/>
            <a:ext cx="5378400" cy="12445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EXERCISING IN THE </a:t>
            </a: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COLD</a:t>
            </a:r>
            <a:endParaRPr b="1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6019920" cy="52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ESS IN LAYER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OID PROFUSE SWE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OID WIND CHILL FA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NK PLENTY OF WAT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80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80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RM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80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STB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0120" y="1320840"/>
            <a:ext cx="6197760" cy="1015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STROKE VOLUME</a:t>
            </a:r>
            <a:endParaRPr b="1" i="1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3200400"/>
            <a:ext cx="5429160" cy="513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39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Arial"/>
              </a:rPr>
              <a:t>sv</a:t>
            </a:r>
            <a:endParaRPr b="1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LUME OF BLOOD PUMPED PER BE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8360" y="1320480"/>
            <a:ext cx="5511960" cy="11682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MAJOR FORMS OF HEAT ILLNESS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2971440"/>
            <a:ext cx="64771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T CRAMP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USCLE PAIN AND SPA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T EXHAUSTION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AK, RAPID PULSE, LOW BLOOD PRESSURE, HEADACHE, AND DIZZI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T STROK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ASATION OF SWEATING, DRY, HOT SKIN AND VERY HIGH BODY TEMPERATURE - THE MOST SERIOUS AND COMPLEX HEAT PROBLE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2760" y="1244520"/>
            <a:ext cx="5968800" cy="1015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FACTORS TO MODIFY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HEAT TOLERANCE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2514240"/>
            <a:ext cx="6095880" cy="561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DUALLY ACCLIMAT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NK PLENTY OF WATER BEFORE DURING AND AF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 FOR EVAPORATION - LIMITED IN HUMID WEAT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LACE ELECTOROLYTES LOST THROUGH SWE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OID EXERCISE DURING HOTTEST TIME OF D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1000" y="1320480"/>
            <a:ext cx="5283000" cy="1320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EFFECTS OF DEHYDRATION</a:t>
            </a:r>
            <a:endParaRPr b="1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3124080"/>
            <a:ext cx="6248160" cy="500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ED CIRCULATORY CAPAC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ED MAX CARDIAC OUTP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ED AUTONOMIC NERVOUS CONTROL OF SWEAT GLA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ED WORK CAPAC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1396800"/>
            <a:ext cx="5968800" cy="11682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FLUID REPLACEMENT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WITH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ARBOHYDRATE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3504960"/>
            <a:ext cx="62485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 IN BLOOD GLUCO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 IN GLUCOSE UTILIZATION BY MUSC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 IN  ENDUR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1360" y="1244520"/>
            <a:ext cx="5378400" cy="11685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BENEFITS OF FLUID REPACEMEN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2971800"/>
            <a:ext cx="62485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D REGULATION OF BODY TEMPER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SWEAT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ASED BODY CORE TE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PLASMA VOLU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STROKE VOLU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8240" y="1015920"/>
            <a:ext cx="5321520" cy="1473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LESSON SIX</a:t>
            </a: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5734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 RUNNING MODALITIES/TRAINING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VAL RUN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58360" y="1320480"/>
            <a:ext cx="5511960" cy="16254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RUNNING MODALITIES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TRAINING METHODS</a:t>
            </a: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3504960"/>
            <a:ext cx="5581440" cy="46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 SLOW DIST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RTLEK “SPEED PLAY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ST, CONTINUO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AN RU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2400" y="1244160"/>
            <a:ext cx="5740200" cy="9399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INTERVAL TRAINING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6248520" cy="59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IN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IES OF REPEATED BOUTS OF EXERCISE ALTERNATED WITH PERIODS OF RELIE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ARIABL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EMPHASIZE A PARTICULAR ENERGY SYSTE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E AND DISTANCE OF WORK (BASED ON PERFORMANCE TIM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REPET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EF TIME BETWEEN INTERV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Y OF TRAINING PER WE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1360" y="1320840"/>
            <a:ext cx="5378400" cy="10922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BENEFITS OF INTERVAL TRAINING</a:t>
            </a: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3124080"/>
            <a:ext cx="6172200" cy="500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S FOR QUALITY, HIGH INTENSITY 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ES PRINCIPLE OF SPECIFIC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STRESS ALL ENERGY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S NERVOUS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1396800"/>
            <a:ext cx="6121440" cy="1549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FORMULA FOR DETERMINING INTERVAL PACE (4 -8 X 400M)</a:t>
            </a: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3733920"/>
            <a:ext cx="6324480" cy="43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LE TIME = 8:00 MINU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0 METER = 2:00 MINU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TRACT 1-4 SECONDS 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1:56-1:5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0120" y="1397160"/>
            <a:ext cx="6121440" cy="1015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CARDIAC OUTPUT</a:t>
            </a:r>
            <a:endParaRPr b="1" i="1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5657760" cy="48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UME OF BLOOD PUMPED PER MINU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 = HR X SV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8240" y="1015920"/>
            <a:ext cx="5321520" cy="1473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LESSON 14</a:t>
            </a:r>
            <a:endParaRPr b="1" i="1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3040" y="2844720"/>
            <a:ext cx="5371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TRITION 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58720" y="1396800"/>
            <a:ext cx="5531040" cy="10918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Book Antiqua"/>
              </a:rPr>
              <a:t>SUBSTRATE</a:t>
            </a:r>
            <a:endParaRPr b="1" i="1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3352320"/>
            <a:ext cx="6019560" cy="477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RBOHYDRATE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1000" y="1244160"/>
            <a:ext cx="5359320" cy="9399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NUTRITION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6477120" cy="553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12% OF DAILY CALORIC INT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T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T TO EXCEED 30% OF DAILY CALORIC INT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RBOHYD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AT LEAST 50%-60%, CONSIDER 70%-75% OF DAILY CALORIC INT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 SOURCE OF ENER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RES BREAKDOWN OF PROTE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C PRIMER FOR FAT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ORTANT FOR ATHLETIC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D WITHIN MUSCLE 3 TIMES AS FAST AS F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30120" y="1244520"/>
            <a:ext cx="6121440" cy="10922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GENERAL GUIDELINES FOR A HEALTHFUL DIET</a:t>
            </a: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T A VARIETY OF FO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OID FATS AND CHOLESTE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T FOODS HIGH IN STARCH AND FI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OID EXCESSIVE SUGAR AND SODI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TAIN ADEQUATE CALCIUM INTA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TAIN RECOMMENDED BODY WEIG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ALCOHOL IN MOD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NK PLENTY OF WA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6960" y="1320480"/>
            <a:ext cx="5302440" cy="7873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FICK PRINCIPLE</a:t>
            </a:r>
            <a:endParaRPr b="1" i="1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2666880"/>
            <a:ext cx="6553440" cy="546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MOUNT OF OXYGEN USED IS A FUNCTION OF HOW MUCH BLOOD IS SENT TO MUSCLE AND HOW MUCH O2 IS IN THE BLO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-V) O2 DIFFER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CK EQUATIO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2 = CARDIAC    X      (A-V) 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UT        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2760" y="1244160"/>
            <a:ext cx="5892480" cy="17017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GAS TRANSPORT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AND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EXCHANGE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3276720"/>
            <a:ext cx="5734080" cy="48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FF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MOGLOB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N MONOX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1320480"/>
            <a:ext cx="5968800" cy="11682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CHANGES IN  OXYGEN TRANSPORT CAPACITY</a:t>
            </a:r>
            <a:endParaRPr b="1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3047760"/>
            <a:ext cx="586764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AUSE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S OF BLO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K OF OXYGEN IN AI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ADE OF H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EM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8T12:30:02Z</dcterms:created>
  <dc:creator>Mr Jeff Coelho</dc:creator>
  <dc:description/>
  <dc:language>en-US</dc:language>
  <cp:lastModifiedBy>Thomas Earley</cp:lastModifiedBy>
  <cp:lastPrinted>1998-01-20T19:17:58Z</cp:lastPrinted>
  <dcterms:modified xsi:type="dcterms:W3CDTF">1998-02-06T13:07:00Z</dcterms:modified>
  <cp:revision>20</cp:revision>
  <dc:subject/>
  <dc:title>AEROBIC 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-internal.dpe.usma.edu</vt:lpwstr>
  </property>
  <property fmtid="{D5CDD505-2E9C-101B-9397-08002B2CF9AE}" pid="9" name="LinkColor">
    <vt:r8>16711782</vt:r8>
  </property>
  <property fmtid="{D5CDD505-2E9C-101B-9397-08002B2CF9AE}" pid="10" name="MailAddress">
    <vt:lpwstr>pt4551@exmail.usm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K:\wwwroot\courses\Aerobic_Fitnes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